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049D-0587-455D-AB7D-E9AB210E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45E6-EB60-4C95-B63B-087C94E5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26A-3915-4B45-B3F2-8F9C998D6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5B0-1BDC-4D10-BDF8-077DBAE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E32C-5113-4B30-B811-9B2B28C7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4DDC-E3EA-4E46-AE93-8465E1DC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6DE4-6DBC-4F65-A880-CE0991C5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B6C8-892D-4520-AEC8-191CB079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F04A8-ECE6-4552-9504-8BEF6000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51B14-4262-4126-835C-4FDF1CA5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CE0E-1D39-4D8F-A0AC-5F114E94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E465-875A-4EFE-BB15-52D53FB4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E9956-6DF9-4183-A290-ABCEC933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52AC-AEE8-42D2-920F-D78FF9AA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B7486-6171-4488-A56D-3C24872F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FBAB-3F3E-4A12-8B4C-17D9BBD3C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E99F-85A9-49C9-AC39-E324E2E16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624-A73B-4B72-9724-84FA8A88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4704-AB30-4915-958C-96948A58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BC0F-E713-4348-9197-38E1F1AB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B37-8359-416A-9FF0-CC8EA0CA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13B0-4A20-4567-AF43-2DA84D03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0F54-D96E-4A23-B7FC-309D583C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B33A-EF30-4DA0-9A29-16D9CB96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FC670-AE0E-4DD9-B3DB-1F60882D7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3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1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A6C67-D927-445D-8C4C-26A9514F26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Tropical Island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Lord of the Fl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Geograph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mate and Weather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Animals 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Pla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Danger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Shipwreck story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What do you think it would be like to have to survive here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13:42:32Z</dcterms:created>
  <dc:creator>DCSUSER</dc:creator>
  <dc:description/>
  <dc:language>en-US</dc:language>
  <cp:lastModifiedBy>DCSUSER</cp:lastModifiedBy>
  <dcterms:modified xsi:type="dcterms:W3CDTF">2011-05-09T13:43:25Z</dcterms:modified>
  <cp:revision>1</cp:revision>
  <dc:subject/>
  <dc:title>Tropical Islands</dc:title>
</cp:coreProperties>
</file>